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A128-666D-494C-ADAE-A6F23D55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E4D8-22B5-4D41-A702-55DB7DC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FAAB-DDAE-4110-A539-28F49298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D233-8798-4014-BF47-7CC4D2C1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7213-1976-4F39-ACE7-3764AF1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DFD5-03F7-457D-91FE-8A934D8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7B41-C807-474E-A6DF-12A1AAF2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2E4E-61F9-4544-9BC1-99048F7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9005-901A-44D8-907E-9DCCA59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617-126F-44BE-A264-A6E5089B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8317-D01C-4FC6-92FC-F7D35D8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4449-C9BE-4A8F-BA03-F7641CD0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35C-C1ED-4276-9E04-B3233C2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BB5-B62B-4CC1-9FE4-7FB652E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16E0-1D01-4A50-A789-3747C803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F843-7F76-42BE-9F88-EE68A60F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A178-17F8-44C1-A38B-5CEAE2D5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79B1-62C1-4FA4-8658-0A46725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DD1C-B528-4FEE-A20D-EE264AF7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A2D2-9BDC-4FBB-A514-C675EBE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D6E1-55FE-49AF-80F4-8D7B73F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B5EF-3A39-4584-962F-EF9F3B2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E3AC-6EA3-4D59-A33A-FAB0B15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8B51-4450-4448-8829-10A5388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71D-8B1D-4F78-B7CC-CB55D897D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5A6-5035-464C-83A2-AE0F58D00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MERICA SECEDES FROM THE EMPI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ts Leave 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776 Brits forced to evacuate Boston because of Henry K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h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on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3044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943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x: Chief of Artillery; First Sec.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mas Paine: Common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981080"/>
            <a:ext cx="3009960" cy="3886200"/>
          </a:xfrm>
          <a:prstGeom prst="rect">
            <a:avLst/>
          </a:prstGeom>
          <a:ln w="9360">
            <a:solidFill>
              <a:srgbClr val="cc27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85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 fighting, most colonists deny any intention of Independ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e jolts people out of this view with his pamphlet “Common Sen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basic arg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f civic 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76360" y="152388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7, 177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Henry L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d for a declaration that Colonies were free and Independ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ed July 2, 177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. Congress commissions an explanation of basis for resolution: Declaration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 Jefferson with help from Franklin and John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671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ocke’s theory on the Rights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:  Purpose and basis of government is to protect fundamental right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, Liberty, Pursuit of 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:  Bad Acts by King violating these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III: Why colonies have no choice and are justified in being in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iots And Loyal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ists (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 of Pop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,000 leave; 200,000 stay; 50,000 fight for Br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8520" y="1295280"/>
            <a:ext cx="4998960" cy="5410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776, Brits invade New York; Battle of Long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retreats down Manhattan and into New 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 Night.  Washington Crosses the Delaware River.  Captures Trenton and Princet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such a huge victo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goyne’s Blundering Invas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lan in 17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oyne down Lake Champlain ro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 would move north to meet-up with him up the Hudson val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New England from the rest of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nold defeats Burgoyne on Lake Cham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38680" y="2046240"/>
            <a:ext cx="2951280" cy="312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67280" y="56386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nedict Arn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 fails to move north to help Burgo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s Washington,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defeated twice and goes into winter quarters at Valley 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ble conditions:  Cold and litt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n von Steu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343400" cy="34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334120"/>
            <a:ext cx="426708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Baron von Steuben turns the Continental Army into a REAL army</a:t>
            </a: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t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oyne defeated at Saratoga by Gates/Arnold Oct. 17, 17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enders his entire comm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ignificant win for U.S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nold is the reason for win, but Gates gets the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exington and Concorde, Minutemen swarm around Bos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 in Philly a month la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13 colonies send representatives this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 for indepen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nge French Bedfello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upport US secretly and provide a great deal of powder and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n’t they support open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heir money and their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Sarat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lin is minister to France and very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70520" y="1371600"/>
            <a:ext cx="38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y with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8 France offered the American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y of All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ermanent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reaty became a problem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1981080"/>
            <a:ext cx="2747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nial War Becomes World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78 the Revolutionary War becomes a World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in against England in 1778.  Spain and Holland come in against England in 1779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nd French Navy combined are bigger than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 now up to their eyeballs i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ed Neutr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War in the No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85840" y="14479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French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drawal of British Navy to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onmouth Court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pins the Brit’s northern forces around New York for the rest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moves to the so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429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w and Counter 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of 1780, 6000 French arrive under Comte de Rochambea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0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dict Arn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ns trai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. strateg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779 Brit. inva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ann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8-79, Brits overrun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80 Brits inva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leston, S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 5000 US soldiers and 400 cannon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fighting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hting in the 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iel Gr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harge of US forces in the Sou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trategy is to hit and ru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Brits to chase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them away from supply bases on the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m to use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rilliant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43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in the South, 1780–17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16040" y="384120"/>
            <a:ext cx="6148440" cy="6168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and Frontier And The Sea Fron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7672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dians sided with the Br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quois Confederacy spl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84, the pro-British Iroquois forced to sign the treaty of Fort Stanw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Rogers Cl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west and captures Forts Kaskaskia, Cahokia and Vincen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257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rktown And The Final Curt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bleak for US in 1780-8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Cornwallis, had withdrawn back to the Chesapeake Bay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rktown, 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ton and Rochambeau come down from the New York area and bottle up Cornwall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nch Navy beat off the Brits at the mouth of the Chesape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wallis is cut off and surr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he end of the war, but decisive vi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ace At 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rktown many in England, especially, Whigs, weary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III wants to keep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North’s ministry had collapsed and Whigs 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lin, J. Adams and John Jay sent to Paris as peace negotiato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instruc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y they viol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of the Treaty of Paris of 17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ad the ar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ignificant early act of Second Continental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an obvious cho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reasons for choosing Washing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19840" y="1905120"/>
            <a:ext cx="323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th America After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16454" r="0" b="0"/>
          <a:stretch/>
        </p:blipFill>
        <p:spPr>
          <a:xfrm>
            <a:off x="1928880" y="1523880"/>
            <a:ext cx="4987800" cy="5105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 in 17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1112760"/>
            <a:ext cx="6477120" cy="5745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hington’s 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520" y="16765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tanding leader of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character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not seek political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believed in principles of democ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force of patience, discipline and fair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emo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rust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d without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9829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conder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an Al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dict Arn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tured British for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condero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wn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pper New Y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precious powder and a number of cann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—cannons are hard to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86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nker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77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ker Hill/Breeds H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under Siege in Bo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ia puts forces on Breeds Hi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under Gage blundered by assaulting the hill directly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s beaten off twice and take heavy casualties, but capture the hill on third 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8 of all Brit officers lost in the war are los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 take a moral vi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mericans false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ss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775, Sec. Cont. Congress adopt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ive Branch 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Geo. III respo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. 1775 Geo III hired thousands of German troops to help crush the rebell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64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bortive Conquest Of Can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775, Americans start a two-pronged invasion of Queb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thesis of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works militarily, but falls sh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Montgom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dict Arn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603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21337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asion of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37520" cy="630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7:21Z</dcterms:created>
  <dc:creator>John Steere</dc:creator>
  <dc:description/>
  <dc:language>en-US</dc:language>
  <cp:lastModifiedBy>John Steere</cp:lastModifiedBy>
  <dcterms:modified xsi:type="dcterms:W3CDTF">2007-06-04T00:31:41Z</dcterms:modified>
  <cp:revision>19</cp:revision>
  <dc:subject/>
  <dc:title>Slide 1</dc:title>
</cp:coreProperties>
</file>